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  <p:custShowLst>
    <p:custShow name="Chapter" id="0">
      <p:sldLst>
        <p:sld r:id="rId5"/>
      </p:sldLst>
    </p:custShow>
    <p:custShow name="ELI Sect 3" id="1">
      <p:sldLst>
        <p:sld r:id="rId14"/>
        <p:sld r:id="rId3"/>
        <p:sld r:id="rId9"/>
      </p:sldLst>
    </p:custShow>
    <p:custShow name="ELI Sect 4" id="2">
      <p:sldLst>
        <p:sld r:id="rId4"/>
        <p:sld r:id="rId5"/>
        <p:sld r:id="rId6"/>
        <p:sld r:id="rId7"/>
        <p:sld r:id="rId8"/>
        <p:sld r:id="rId10"/>
        <p:sld r:id="rId11"/>
        <p:sld r:id="rId12"/>
        <p:sld r:id="rId13"/>
      </p:sldLst>
    </p:custShow>
    <p:custShow name="ELI STP" id="3">
      <p:sldLst>
        <p:sld r:id="rId4"/>
        <p:sld r:id="rId8"/>
        <p:sld r:id="rId11"/>
        <p:sld r:id="rId14"/>
      </p:sldLst>
    </p:custShow>
    <p:custShow name="VIs Con" id="4">
      <p:sldLst>
        <p:sld r:id="rId13"/>
      </p:sldLst>
    </p:custShow>
    <p:custShow name="Chapter menu" id="5">
      <p:sldLst>
        <p:sld r:id="rId14"/>
        <p:sld r:id="rId3"/>
        <p:sld r:id="rId9"/>
        <p:sld r:id="rId4"/>
        <p:sld r:id="rId5"/>
        <p:sld r:id="rId6"/>
        <p:sld r:id="rId7"/>
        <p:sld r:id="rId8"/>
        <p:sld r:id="rId10"/>
        <p:sld r:id="rId11"/>
        <p:sld r:id="rId12"/>
        <p:sld r:id="rId1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earth_sci_cont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228600" y="572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ources and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7238880" y="76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tion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>
            <a:hlinkClick r:id="" action="ppaction://hlinkshowjump?jump=previousslide"/>
          </p:cNvPr>
          <p:cNvSpPr/>
          <p:nvPr/>
        </p:nvSpPr>
        <p:spPr>
          <a:xfrm>
            <a:off x="4724280" y="6095880"/>
            <a:ext cx="99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>
            <a:hlinkClick r:id="" action="ppaction://hlinkshowjump?jump=nextslide"/>
          </p:cNvPr>
          <p:cNvSpPr/>
          <p:nvPr/>
        </p:nvSpPr>
        <p:spPr>
          <a:xfrm>
            <a:off x="5715000" y="6095880"/>
            <a:ext cx="1066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781680" y="6095880"/>
            <a:ext cx="1143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>
            <a:hlinkClick r:id="" action="ppaction://hlinkshowjump?jump=endshow"/>
          </p:cNvPr>
          <p:cNvSpPr/>
          <p:nvPr/>
        </p:nvSpPr>
        <p:spPr>
          <a:xfrm>
            <a:off x="8039160" y="60958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ection 4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ources and Conservation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5400" y="1598400"/>
            <a:ext cx="8383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ources and Conser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vironmental Impacts of M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ssil Fuels and the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er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yc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ps in 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onservation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ossil-Fuel Conser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ssil fuels can be conserved by reducing the amount of energy used every 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ing the amount of driving, insulation for a house, energy-efficient appliances, all help conserve energ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nservation of Other Natural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scientists estimate that by the year 2025, the world will have a critical shortage of freshwater resour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Recycling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7" name="Picture 27" descr="80057"/>
          <p:cNvPicPr/>
          <p:nvPr/>
        </p:nvPicPr>
        <p:blipFill>
          <a:blip r:embed="rId1"/>
          <a:stretch/>
        </p:blipFill>
        <p:spPr>
          <a:xfrm>
            <a:off x="1754280" y="1706400"/>
            <a:ext cx="5256000" cy="421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8" descr=""/>
          <p:cNvPicPr/>
          <p:nvPr/>
        </p:nvPicPr>
        <p:blipFill>
          <a:blip r:embed="rId1"/>
          <a:stretch/>
        </p:blipFill>
        <p:spPr>
          <a:xfrm>
            <a:off x="2092320" y="2158920"/>
            <a:ext cx="4957920" cy="37846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aps in Action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nd Power in the United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wo environmental impacts of mining and the use of fossil fue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wo ways the environmental impacts of mining can be reduc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dentif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ree ways that you can conserve natural resour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Resources and Conservation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imited supply of fossil fuels and other traditional energy resources has inspired research into possible new energy resour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tists are studying how the use of traditional energy sources affects Earth’s ecosys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stimate that the worldwide coal reserves will last about 200 years, and within 20 years, humans will have used half of Earth’s oil supp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have also learned that mining can damage or destroy fragile ecosystems. Also, fossil fuels and nuclear power may add pollution to Earth’s air, water, and so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ing can cause a variety of environmental probl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ing may cause both air and noise pollution, water pollution, increased erosion and soil degradation, formation of sink holes,  and the destruction to wildlife habita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use fires in coal mines are difficult to put out, they are commonly left to burn out, which may take several decades or centuri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nvironmental Impacts of Mining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nvironmental Impacts of Mining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9020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ining Regu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Aft>
                <a:spcPts val="52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he United States has federal and state laws that regulate the operation of mines, and prevent mining operations from contaminating local air, water, and soil resource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Aft>
                <a:spcPts val="52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ll mining operations also comply with the federal Endangered Species Act, which protects threatened or endangered species and their habitats from being destroyed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ine Recla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Aft>
                <a:spcPts val="52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ff"/>
                </a:solidFill>
                <a:latin typeface="Arial"/>
              </a:rPr>
              <a:t>Reclamation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helps reduce the long-lasting environmental impact of mining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Aft>
                <a:spcPts val="52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ompanies are required to return mined land to its original condition after mining is completed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ossil-fuel procurement affects the environment and contributes to air pol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ip mining removes plants and topsoil. The exposed land often erodes quickly, creating runoffs of acid rain into nearby rivers and strea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rning coal releases large amounts of sulfur dioxide, 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into the atmosphere.  When 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mbines with water in the air, acid precipitation for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burning of gasoline in cars is a major contributor to air pollu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ossil Fuels and the Environmen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onservation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58" name="ShockwaveFlash1"/>
          <p:cNvGraphicFramePr/>
          <p:nvPr/>
        </p:nvGraphicFramePr>
        <p:xfrm>
          <a:off x="2128680" y="1600200"/>
          <a:ext cx="4937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600200"/>
                    <a:ext cx="4937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onservation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nservation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ervation can help reduce the environmental damage and amount of pollution that can result from the mining and use of natural resour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conserving natural resources, people can ensure that limited natural resources last long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onservation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ineral Conser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ecycl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ycling requires energy, but recycling uses less energy than the mining and manufacturing of new resources do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other way to conserve minerals is to use other abundant or renewable materials in place of scarce or nonrenewable materi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rocksund</cp:lastModifiedBy>
  <cp:lastPrinted>2004-02-20T14:12:55Z</cp:lastPrinted>
  <dcterms:modified xsi:type="dcterms:W3CDTF">2013-12-04T16:09:59Z</dcterms:modified>
  <cp:revision>649</cp:revision>
  <dc:subject/>
  <dc:title>No Slide Title</dc:title>
</cp:coreProperties>
</file>